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3F2D-885B-444B-8B3F-6B7579DF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E04-230F-4519-8545-F99EDDBC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619-6807-418A-9441-BA98A9F3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6F0A-748D-4CD1-8963-08B41BAD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A59-B800-4873-8113-54482135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766E-61E8-4939-8FC3-B296281C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E6CB-7A58-4B5B-A24B-52F19C99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1A8-4CC8-4ADB-AFFB-BBBBF514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A83-6EFA-424C-9DB5-36DABE0A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CFC-69E9-411F-A500-158E834B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C90-58EB-4E56-889C-365267EB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3E9-7EBF-4724-8DBA-4F8F8F20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530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Kai Müller, 01.04.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77120" y="1522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F – Aufgabe 3-5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4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4DC0-D979-45C7-AEF5-F095D618A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ufgabe 3-5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ktion mit linearem Misc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ufgabe 3-5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1905120"/>
          <a:ext cx="87631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7631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arstellung Produktionsverfahr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2362320"/>
          <a:ext cx="83818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3818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P Modell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 &lt;= 100.000 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 &lt;= 160.000 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rlegu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,4*x1 = x3  (x1 zerfällt zu 40% in x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,6*x1 = x5  ( ...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,7*x2 = x4  ( ...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,3*x2 = x6  ( ...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k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7 = x5 + x6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3 = 0,8*x8 + 0,6*x9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4 = 0,2*x8 + 0,4*x9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P Modell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ark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rtrag P7: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7 = 1.800 * x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rtrag P8: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8 = 2.400 * x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rtrag P9: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9 = 2.000 * x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NB: x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&gt;= 0, i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[1..9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ielfunk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z = ( 1.800*x7+2.400*x8+2.000*x9 ) – (1.400*x1 + 2.000*x2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+  400*x5 + 200*x6 ) </a:t>
            </a:r>
            <a:r>
              <a:rPr b="0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max 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819160" y="5409720"/>
            <a:ext cx="685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55627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redelungskos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705360" y="51055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55627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hstoffkos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1430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11430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6576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1430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36576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P Ansat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x1.. x9 &gt;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x1 &lt;= 100.000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x2 &lt;= 160.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-x3 + 0,4*x1  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-x5 + 0,6*x1  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0,7*x2 – x4    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0,3*x2 – x6    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- x7 + x5 + x6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- x3 + 0,8*x8 + 0,6*x9  = 0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- x4 + 0,2*x8 + 0,4*x9 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1.800*x7+2.400*x8+2.000*x9  – 1.400*x1 - 2.000*x2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-  400*x5 - 200*x6 ) </a:t>
            </a:r>
            <a:r>
              <a:rPr b="0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max 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36232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525780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91520" y="5486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ielfunk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ösung im LP-interaktiv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45720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51814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52760" y="2419200"/>
            <a:ext cx="5838480" cy="2019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62520" y="4648320"/>
            <a:ext cx="35049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fik mit Meng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2209680"/>
          <a:ext cx="7896240" cy="28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7896240" cy="28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1T10:57:52Z</dcterms:created>
  <dc:creator>KM</dc:creator>
  <dc:description/>
  <dc:language>en-US</dc:language>
  <cp:lastModifiedBy>KM</cp:lastModifiedBy>
  <dcterms:modified xsi:type="dcterms:W3CDTF">2001-04-21T21:54:23Z</dcterms:modified>
  <cp:revision>19</cp:revision>
  <dc:subject/>
  <dc:title>Darstellung Produktionsverfahren</dc:title>
</cp:coreProperties>
</file>